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B79-BE75-4E3F-B5E9-E9B4B742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BEBE-97DB-4113-B5CB-33E38E23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B2D-0F42-49D2-977B-7177EDDF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646-7681-4118-9CEF-7481E760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9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Biology AP Test Review Jeopar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9112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1430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600200" y="167652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00200" y="248904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600200" y="332748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600200" y="416556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600200" y="5003640"/>
            <a:ext cx="106668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819520" y="167652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819520" y="248904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819520" y="332748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819520" y="416556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819520" y="5003640"/>
            <a:ext cx="106668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4038480" y="1676520"/>
            <a:ext cx="11430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4038480" y="2514600"/>
            <a:ext cx="11430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114800" y="332748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4114800" y="416556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114800" y="5003640"/>
            <a:ext cx="106668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5334120" y="167652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6553080" y="248904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5334120" y="332748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5334120" y="416556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334120" y="500364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762120"/>
            <a:ext cx="1143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:  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1600200" y="762120"/>
            <a:ext cx="1066680" cy="504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erg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2819520" y="762120"/>
            <a:ext cx="1066680" cy="489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redity &amp;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4038480" y="762120"/>
            <a:ext cx="1143000" cy="763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olution &amp; D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5334120" y="762120"/>
            <a:ext cx="1066680" cy="398880"/>
          </a:xfrm>
          <a:prstGeom prst="rect">
            <a:avLst/>
          </a:prstGeom>
          <a:solidFill>
            <a:srgbClr val="66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>
            <a:hlinkClick r:id="rId27" action="ppaction://hlinksldjump"/>
          </p:cNvPr>
          <p:cNvSpPr/>
          <p:nvPr/>
        </p:nvSpPr>
        <p:spPr>
          <a:xfrm>
            <a:off x="830592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8"/>
          <p:cNvSpPr/>
          <p:nvPr/>
        </p:nvSpPr>
        <p:spPr>
          <a:xfrm>
            <a:off x="6553080" y="762120"/>
            <a:ext cx="990720" cy="642240"/>
          </a:xfrm>
          <a:prstGeom prst="rect">
            <a:avLst/>
          </a:prstGeom>
          <a:solidFill>
            <a:srgbClr val="cc66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9"/>
          <p:cNvSpPr/>
          <p:nvPr/>
        </p:nvSpPr>
        <p:spPr>
          <a:xfrm>
            <a:off x="7696080" y="762120"/>
            <a:ext cx="990720" cy="58068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: More 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0"/>
          <p:cNvSpPr/>
          <p:nvPr/>
        </p:nvSpPr>
        <p:spPr>
          <a:xfrm>
            <a:off x="7696080" y="165096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1"/>
          <p:cNvSpPr/>
          <p:nvPr/>
        </p:nvSpPr>
        <p:spPr>
          <a:xfrm>
            <a:off x="6553080" y="165096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2"/>
          <p:cNvSpPr/>
          <p:nvPr/>
        </p:nvSpPr>
        <p:spPr>
          <a:xfrm>
            <a:off x="7696080" y="248904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3"/>
          <p:cNvSpPr/>
          <p:nvPr/>
        </p:nvSpPr>
        <p:spPr>
          <a:xfrm>
            <a:off x="5334120" y="2514600"/>
            <a:ext cx="106668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4"/>
          <p:cNvSpPr/>
          <p:nvPr/>
        </p:nvSpPr>
        <p:spPr>
          <a:xfrm>
            <a:off x="7696080" y="332748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5"/>
          <p:cNvSpPr/>
          <p:nvPr/>
        </p:nvSpPr>
        <p:spPr>
          <a:xfrm>
            <a:off x="6553080" y="332748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6"/>
          <p:cNvSpPr/>
          <p:nvPr/>
        </p:nvSpPr>
        <p:spPr>
          <a:xfrm>
            <a:off x="7696080" y="419112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7"/>
          <p:cNvSpPr/>
          <p:nvPr/>
        </p:nvSpPr>
        <p:spPr>
          <a:xfrm>
            <a:off x="6553080" y="419112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6553080" y="5029200"/>
            <a:ext cx="990720" cy="6426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7696080" y="5029200"/>
            <a:ext cx="990720" cy="642600"/>
          </a:xfrm>
          <a:prstGeom prst="rect">
            <a:avLst/>
          </a:prstGeom>
          <a:solidFill>
            <a:srgbClr val="ff5050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2 major processes of photosynthesis and the 2 reaction centers of the first process (in the order they are act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light-dependent and the Calvin Cycle (or light-independent) reactions, and what are photosystems II and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difference between C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 C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and CAM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lants that do the Calvin cycle during the day, (which may result in photorespiration on hot, dry days); C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lants that fix carbon in mesophyll cells which avoids photorespiration, and CAM plants that open stomata and fix carbon at 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on-cyclic vs. cyclic electron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production of ATP that uses PS II, the ETC and PSI vs. PS I, the ETC and back to PS I to generate more ATP than NAD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trons and e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the noncoding and coding segments of mR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tages in meiosis in which crossing over, lining up of homologues, separation of homologues, and separation of chromatids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prophase I, metaphase I, anaphase I and anaphase I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ms of inheritance in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raits bl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re is equal expression of 2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re is interaction of many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enes at one locus affect the expression of genes at another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n allele affects several characteristics of an 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complete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olygenic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pi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leitr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estriction enzymes, plasmids, phage, recombinant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enzymes that cut DNA at a specific sequence, circular DNA of bacteria, a virus that infects bacteria, and DNA containing genetic material from more than on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Epigenic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transmission of traits by mechanisms that do not involve changes in DNA 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hylogeny, homologous structures, and analogous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the terms for the study of evolutionary relationships, structures in different species that evolve from a common ancestor and structures in different species that evolve independently due to environment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eciation that occurs when a population is divided by a geographic barrier, and speciation that occurs without a geographic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allopatric and sympatric speciation (respectively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allele and genotype frequencies for a plant population consisting of 84% plants with red flowers and 16% white flowers (where the red allele is dominant over the whi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.6 dominant and .4 recessive allele frequencies, and 36% homozygous dominant, 48% heterozygous, and 16% homozygous recessive genotype frequenc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 scientific areas of study that provide evidence fo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(4 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ale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io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mbry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omparative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lecular 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 factors that cause evolution (or changes in allele frequenc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3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Gene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Genetic drift (including founder effect and bottle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onrandom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major groups of plants that include mosses, ferns, conifers and flowering plants, resp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nonvascular, seedless vascular, gymnosperms and angiosper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imary growth and where on plants it occurs, and secondary growth and where it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plant growth in length that occurs at apical meristems and plant growth (in woody plants) in girth (width) that occurs in lateral meri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sporophyte and gametophyte in plants and the term for the type of life cycle plants unde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the plant and the pollen/embryo sac, and alternation of gener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hotoperiodism and phytoch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response of plants to changes in the relative lengths of daylight and night, and pigments that are involved in plant responses to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lant hormones that a) promote plant growth and phototropism, b) promote leaf abscission (release from the stem) and fruit ripening, c) inhibit leaf abscission and promote bud and seed dorm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auxins, ethylene and abscis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abolic rate, endothermic vs. ex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the amount of energy an animal uses in a unit of time; what are animals that generate their own body heat vs. animals that obtain body heat from the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processes by which gas exchange occurs between alveoli and capillaries, between capillaries and body cells and the mechanism that permits air movement into and out of the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diffusion, diffusion, and volume changes that create pressure dif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he functions of smooth ER, lysosomes and peroxisomes,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Lipid synthesis and toxin det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gestion of macromolecules by enzymes and an acidic environment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Breakdown of various substances including some toxins and H2O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3 processes involved in a human nephron to produce urine from blood, and where they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filtration (in the glomerulus), secretion (in the proximal convoluted tubules) and reabsorption (in the loop of Henle and distal convoluted tubule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teps that lead to transmission of a nerve impulse across a synapse once the action potential reaches the axon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lease of Ca2+ into the axon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Vesicles containing a neurotransmitter travel to the axon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neurotransmitter is released into the synaptic cleft between the pre-synaptic and post-synaptic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ceptors on the post-synaptic cell bind to the neurotransmitter and the post-synaptic membrane is excited or inhibited (depending on the type of signal from the neuro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neurotransmitter is reabsorb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y the pre-synaptic cell or broken down and recyc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teps to muscle contraction in a sarc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TP binds to myosin heads on the thick filaments and forms ADP +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n action potential causes Ca2+ to be released and Ca2+ binds to proteins on the thin actin filaments, exposing binding sites for myo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yosin heads attach to binding sites on actin, forming cross bridges between the thick and thin fila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P + P are released and the myosin head swivels, pulling the actin inward, causing the sarcomere to contract (this is done many times causing the whole muscle to contra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w ATP attaches to the myosin, causing the cross bridges to unbind, and the process is ready to 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When the action potential stops, the Ca2+ is reabsorbed and the myosin binding sites on the actin are not exposed, so cross bridges canno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tages in embryonic development after fer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cleavage, (morula), blastula, and gastr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elom, gastrovascular cavity and alimentary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a fluid-filled body cavity that separates the digestive tract from the outer body wall; and what is a single opening that functions in both digestion and excretion; and what is a one-way digestive tract with 2 open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gonistic behavior, taxis,  kinesis, and impr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 aggression or submission resulting from competition, undirected change in speed of an animal’s response to a stimulus, a directed movement in response to a stimulus, and a process for acquiring specific behavior only if an appropriate stimulus is experienced during a critical peri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functions and source organ/gland for antidiuretic hormone, insulin, epinephrine and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 regulation of water balance (posterior pituitary), decreases blood sugar levels (pancreas), fight or flight response [increase blood sugar and heart rate] (adrenal medulla), and sodium and potassium homeostasis (adrenal cortex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In the immune response, 2 functions of macrophages, functions of the 2 types of B cells, and functions of each of the 4 types of 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agocytosis and antigen present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Plasma cell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that produce antibodies and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memory B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remember the antigen the next time it attacks 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Helper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activate B and other T cell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cytotoxic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destroy infected body cell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suppressor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turn off the immune response when it has done enough, and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memory 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hich remember the antigen the next time it attacks so the antigen can be destroyed before you realize you’ve been in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</a:rPr>
              <a:t>The energy-carrying molecules used in cellular respiration vs. those used in photosynthesis (include what they begin as and what they are reduced to, if applicabl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 cellular respiration, what are NAD+ to NADH, FAD to FADH2 and AT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 photosynthesis, what are NADP+ to NADPH and AT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ell junctions in plant and animal cells (respectively) that permit passage of some materials from one cell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plasmodesmata and gap jun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fluid mosa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model describes the cell membrane as a flexible phospholipid bilayer with embedded proteins that can move some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hospholipid hydrophilic heads to the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Hydrophobic tails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mechanisms for passive and active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diffusion down a concentration gradient (passive) and use of energy to move solutes against their gradients (active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arts of a signal transduction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reception, transduction and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3 steps in cellular respiration and the 2 parts of the la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are glycolysis, the Krebs (or citric acid) cycle and oxidative phosphorylation; and what are the electron transport chain and chemiosm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 types of fermentation, and what organisms have thes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hat is alcohol fermentation, done by yeasts and some bacteria, and what is lactic acid fermentation, done by animal mus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ancy</cp:lastModifiedBy>
  <dcterms:modified xsi:type="dcterms:W3CDTF">2009-05-09T04:51:51Z</dcterms:modified>
  <cp:revision>59</cp:revision>
  <dc:subject/>
  <dc:title>Science Jeopardy</dc:title>
</cp:coreProperties>
</file>